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40.png" ContentType="image/png"/>
  <Override PartName="/ppt/media/image41.png" ContentType="image/png"/>
  <Override PartName="/ppt/media/image30.jpeg" ContentType="image/jpeg"/>
  <Override PartName="/ppt/media/image43.png" ContentType="image/png"/>
  <Override PartName="/ppt/media/image44.png" ContentType="image/png"/>
  <Override PartName="/ppt/media/image45.jpeg" ContentType="image/jpeg"/>
  <Override PartName="/ppt/media/image46.jpeg" ContentType="image/jpe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8.wmf" ContentType="image/x-wmf"/>
  <Override PartName="/ppt/media/image29.jpeg" ContentType="image/jpeg"/>
  <Override PartName="/ppt/media/image22.jpeg" ContentType="image/jpeg"/>
  <Override PartName="/ppt/media/image39.png" ContentType="image/png"/>
  <Override PartName="/ppt/media/image9.png" ContentType="image/png"/>
  <Override PartName="/ppt/media/image11.png" ContentType="image/png"/>
  <Override PartName="/ppt/media/image28.png" ContentType="image/png"/>
  <Override PartName="/ppt/media/image31.wmf" ContentType="image/x-wmf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AutoShape 1"/>
          <p:cNvSpPr/>
          <p:nvPr/>
        </p:nvSpPr>
        <p:spPr>
          <a:xfrm>
            <a:off x="0" y="0"/>
            <a:ext cx="6883560" cy="9294840"/>
          </a:xfrm>
          <a:custGeom>
            <a:avLst/>
            <a:gdLst>
              <a:gd name="textAreaLeft" fmla="*/ 360 w 6883560"/>
              <a:gd name="textAreaRight" fmla="*/ 6883200 w 688356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166">
                <a:moveTo>
                  <a:pt x="4" y="0"/>
                </a:moveTo>
                <a:arcTo wR="4" hR="4" stAng="16200000" swAng="-5400000"/>
                <a:lnTo>
                  <a:pt x="0" y="29162"/>
                </a:lnTo>
                <a:arcTo wR="4" hR="4" stAng="10800000" swAng="-5400000"/>
                <a:lnTo>
                  <a:pt x="21596" y="29166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0" y="0"/>
            <a:ext cx="6881760" cy="9296280"/>
          </a:xfrm>
          <a:custGeom>
            <a:avLst/>
            <a:gdLst>
              <a:gd name="textAreaLeft" fmla="*/ 360 w 6881760"/>
              <a:gd name="textAreaRight" fmla="*/ 6881400 w 6881760"/>
              <a:gd name="textAreaTop" fmla="*/ 360 h 9296280"/>
              <a:gd name="textAreaBottom" fmla="*/ 9295920 h 9296280"/>
            </a:gdLst>
            <a:ahLst/>
            <a:rect l="textAreaLeft" t="textAreaTop" r="textAreaRight" b="textAreaBottom"/>
            <a:pathLst>
              <a:path w="21600" h="29178">
                <a:moveTo>
                  <a:pt x="5" y="0"/>
                </a:moveTo>
                <a:arcTo wR="5" hR="5" stAng="16200000" swAng="-5400000"/>
                <a:lnTo>
                  <a:pt x="0" y="29173"/>
                </a:lnTo>
                <a:arcTo wR="5" hR="5" stAng="10800000" swAng="-5400000"/>
                <a:lnTo>
                  <a:pt x="21595" y="2917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0" y="0"/>
            <a:ext cx="29829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dt" idx="9"/>
          </p:nvPr>
        </p:nvSpPr>
        <p:spPr>
          <a:xfrm>
            <a:off x="3897000" y="-360"/>
            <a:ext cx="2979720" cy="461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ldImg"/>
          </p:nvPr>
        </p:nvSpPr>
        <p:spPr>
          <a:xfrm>
            <a:off x="1117080" y="696600"/>
            <a:ext cx="4645080" cy="348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0800" cy="4179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0" y="8827920"/>
            <a:ext cx="29829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0"/>
          </p:nvPr>
        </p:nvSpPr>
        <p:spPr>
          <a:xfrm>
            <a:off x="3897000" y="8829360"/>
            <a:ext cx="2979720" cy="461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b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C4EC9F-7E93-4A2C-99CE-11A8BE84A7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8B7569-6B8B-44A9-99F5-AC952BEC90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6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231B13-F558-4C86-A600-33B386ADFF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4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5138C0-42A2-4092-B049-F542FEC94C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7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2666B-97F9-485B-94C7-3943767211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0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AAAAA-CA4A-4C47-A65D-AD6DD39CCA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3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50E4E-CD2D-4268-B25C-E78AFBAA8C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6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46B006-3F53-4FC7-B196-4CFC94537A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9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06B75-9D49-4A2D-9404-99C7E36392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B7FE38-2C5D-4E54-8F34-2D9DC1AC6C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5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4D0696-7BDB-4143-B08F-99652DA40C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8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70E7FE-8E26-4D4D-952D-D6DF46C07F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1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F37DA1-21E6-409C-8974-474F612623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9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3D06EB-082C-4CB8-8133-AE85E17657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DF5AEB-EDE0-4E22-98D1-E25E40763D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163F1-20E3-4106-B0FC-5D0FA4AC33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E1CA9-0EAC-4688-892F-973FD7E98B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3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66F8A5-59B1-48C6-B79C-DE82C969CC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6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14AADE-0B65-434B-BFC1-FD98D21574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9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D2AD08-5B6F-4068-9F71-630D915391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56D0F8-BA6F-435A-9FCA-9A1275EB15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5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5173B4-8429-4D1F-805A-1388FA56ED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2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1E0109-06A0-4070-8D94-F91BCDECCE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5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04AFB8-B46F-466A-AE8E-CB46A29B85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8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D2BBB-615A-4F48-AB9F-7E6143EF83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1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F94FEE-9BC9-424C-BF37-BBB7898F65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4" name="Text Box 1"/>
          <p:cNvSpPr/>
          <p:nvPr/>
        </p:nvSpPr>
        <p:spPr>
          <a:xfrm>
            <a:off x="1147680" y="696960"/>
            <a:ext cx="458784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B5A24-008C-4FF6-B0AF-BCB8E1BD5A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34A788-69B0-47F8-9D80-98923AE495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8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E889DF-0D2E-419A-813E-C1206E226B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1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2CCDC-D5BE-4557-84BA-A68D9C45D5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03C8F-DE8B-4602-80B9-1AA70C06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C8A56-BF32-4909-BCCF-DDD232A3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820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956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684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820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956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AAAB2-015C-48E8-8B82-66885210E0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871FE3-2F1F-426F-98FF-0357D7BF1A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45A95E-E66E-4C99-8FF5-CF41649E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69BC4-3064-4AED-A0EC-CE0AC8F3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764DFC-7846-48C0-9B43-6037FD1C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594896-69D3-409C-AC96-2936C4E13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D9736C-8C24-4BF0-906B-FB4490CAB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A0EB7B-CE4D-41EC-8A29-E99CD7306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4E30B-572E-4B10-B7CE-8BA33C3F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45F909-E78B-4000-BD08-5CCC0AB8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A56B74-CC8F-41D8-A999-9FC070F6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D9FA49-67A1-4340-B6E2-FA5B0DE6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DDEF19-5F43-4FAC-AA06-AF61C6A0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820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956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684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820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956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1A555-59EC-41A9-951B-505A155D4B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F043-56BA-4E03-9CAD-54A6A7C1E3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D7B6-0EAD-4BE9-AE40-74DB35F7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410D-0DC8-4B33-85CB-5386F9EA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9BA7-9FCD-4F10-B97D-D7C97B6B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5BA2-5B44-4530-892A-CAEA98EE4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7FEF4-6B73-4671-9411-94431FBC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2D11-2DDF-48CE-BF16-7BE0648F7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2979-3C9A-471A-8FDD-49BA6D1A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834E-11F6-4715-9126-5DF5156D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5C9C-7A68-423B-9E40-E1F1CDCD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57AE-24A4-418D-B981-45FE02BE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2B3A-DF12-4912-AF0F-0A2AC490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820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1956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820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1956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23B4-BCF5-403B-ADFB-A33F9315A7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A81C18-F13C-43B7-B26A-C8C2C26E4F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56C5ED-1218-4C39-BD44-739195FE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30F1BB-099B-4431-8830-76C194FF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25FA5-0137-4863-92EC-C0A451B9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87EE7B-9385-4602-A2C8-16CE1001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BC8D39-4BC6-4E37-A9ED-9D590049E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606121-CC57-4708-9D61-7DF91104D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582537-BD87-4EEB-BD46-3B2B06F8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0DB67C-2CAD-4EBD-B43C-BD1E1C05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B220E2-B337-49B0-B259-06A34013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03BAD2-6104-4598-9A4F-2030C6D6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BBABF0-87A5-4D42-8CB4-18A2CCAB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820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1956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684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820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1956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79AAA2-1495-4DF2-8B14-7D256F0894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1FCCE-C60F-45CE-97BB-444F8086A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BF165-E7D4-4704-BB07-8D6AEC38E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53409-0A8C-4F00-808A-7BA98E56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70E0D-D5F5-4A17-A466-97DD4B85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28FD5-28AC-496A-BC74-8A689928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680" y="6356160"/>
            <a:ext cx="7588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369559-C057-4A78-A012-BC7915767E8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8"/>
          <p:cNvGrpSpPr/>
          <p:nvPr/>
        </p:nvGrpSpPr>
        <p:grpSpPr>
          <a:xfrm>
            <a:off x="-19080" y="203040"/>
            <a:ext cx="9177480" cy="644760"/>
            <a:chOff x="-19080" y="203040"/>
            <a:chExt cx="9177480" cy="644760"/>
          </a:xfrm>
        </p:grpSpPr>
        <p:grpSp>
          <p:nvGrpSpPr>
            <p:cNvPr id="8" name="Group 9"/>
            <p:cNvGrpSpPr/>
            <p:nvPr/>
          </p:nvGrpSpPr>
          <p:grpSpPr>
            <a:xfrm>
              <a:off x="-19080" y="203040"/>
              <a:ext cx="9159480" cy="644760"/>
              <a:chOff x="-19080" y="203040"/>
              <a:chExt cx="9159480" cy="644760"/>
            </a:xfrm>
          </p:grpSpPr>
          <p:pic>
            <p:nvPicPr>
              <p:cNvPr id="9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2880" y="203040"/>
                <a:ext cx="9137520" cy="64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20000">
                <a:off x="-18720" y="476640"/>
                <a:ext cx="10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11" name="Group 12"/>
            <p:cNvGrpSpPr/>
            <p:nvPr/>
          </p:nvGrpSpPr>
          <p:grpSpPr>
            <a:xfrm>
              <a:off x="-19080" y="247680"/>
              <a:ext cx="9177480" cy="561960"/>
              <a:chOff x="-19080" y="247680"/>
              <a:chExt cx="9177480" cy="561960"/>
            </a:xfrm>
          </p:grpSpPr>
          <p:pic>
            <p:nvPicPr>
              <p:cNvPr id="12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164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20000">
                <a:off x="-18720" y="521280"/>
                <a:ext cx="108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AutoShape 2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-19080" y="203040"/>
            <a:ext cx="9177480" cy="644760"/>
            <a:chOff x="-19080" y="203040"/>
            <a:chExt cx="9177480" cy="644760"/>
          </a:xfrm>
        </p:grpSpPr>
        <p:grpSp>
          <p:nvGrpSpPr>
            <p:cNvPr id="53" name="Group 4"/>
            <p:cNvGrpSpPr/>
            <p:nvPr/>
          </p:nvGrpSpPr>
          <p:grpSpPr>
            <a:xfrm>
              <a:off x="-19080" y="203040"/>
              <a:ext cx="9159480" cy="644760"/>
              <a:chOff x="-19080" y="203040"/>
              <a:chExt cx="9159480" cy="644760"/>
            </a:xfrm>
          </p:grpSpPr>
          <p:pic>
            <p:nvPicPr>
              <p:cNvPr id="54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880" y="203040"/>
                <a:ext cx="9137520" cy="64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Text Box 6"/>
              <p:cNvSpPr/>
              <p:nvPr/>
            </p:nvSpPr>
            <p:spPr>
              <a:xfrm rot="21420000">
                <a:off x="-18720" y="476640"/>
                <a:ext cx="10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56" name="Group 7"/>
            <p:cNvGrpSpPr/>
            <p:nvPr/>
          </p:nvGrpSpPr>
          <p:grpSpPr>
            <a:xfrm>
              <a:off x="-19080" y="247680"/>
              <a:ext cx="9177480" cy="561960"/>
              <a:chOff x="-19080" y="247680"/>
              <a:chExt cx="9177480" cy="561960"/>
            </a:xfrm>
          </p:grpSpPr>
          <p:pic>
            <p:nvPicPr>
              <p:cNvPr id="57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164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9"/>
              <p:cNvSpPr/>
              <p:nvPr/>
            </p:nvSpPr>
            <p:spPr>
              <a:xfrm rot="21420000">
                <a:off x="-18720" y="521280"/>
                <a:ext cx="108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7924680" y="6356160"/>
            <a:ext cx="7588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D31683-778C-4F9F-881E-73E953DC42A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-19080" y="203040"/>
            <a:ext cx="9177480" cy="644760"/>
            <a:chOff x="-19080" y="203040"/>
            <a:chExt cx="9177480" cy="644760"/>
          </a:xfrm>
        </p:grpSpPr>
        <p:grpSp>
          <p:nvGrpSpPr>
            <p:cNvPr id="103" name="Group 4"/>
            <p:cNvGrpSpPr/>
            <p:nvPr/>
          </p:nvGrpSpPr>
          <p:grpSpPr>
            <a:xfrm>
              <a:off x="-19080" y="203040"/>
              <a:ext cx="9159480" cy="644760"/>
              <a:chOff x="-19080" y="203040"/>
              <a:chExt cx="9159480" cy="644760"/>
            </a:xfrm>
          </p:grpSpPr>
          <p:pic>
            <p:nvPicPr>
              <p:cNvPr id="104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880" y="203040"/>
                <a:ext cx="9137520" cy="64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Text Box 6"/>
              <p:cNvSpPr/>
              <p:nvPr/>
            </p:nvSpPr>
            <p:spPr>
              <a:xfrm rot="21420000">
                <a:off x="-18720" y="476640"/>
                <a:ext cx="10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Group 7"/>
            <p:cNvGrpSpPr/>
            <p:nvPr/>
          </p:nvGrpSpPr>
          <p:grpSpPr>
            <a:xfrm>
              <a:off x="-19080" y="247680"/>
              <a:ext cx="9177480" cy="561960"/>
              <a:chOff x="-19080" y="247680"/>
              <a:chExt cx="9177480" cy="561960"/>
            </a:xfrm>
          </p:grpSpPr>
          <p:pic>
            <p:nvPicPr>
              <p:cNvPr id="107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164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Text Box 9"/>
              <p:cNvSpPr/>
              <p:nvPr/>
            </p:nvSpPr>
            <p:spPr>
              <a:xfrm rot="21420000">
                <a:off x="-18720" y="521280"/>
                <a:ext cx="108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7924680" y="6356160"/>
            <a:ext cx="7588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43E6D7-BA78-494F-A1D8-D3D3B8909D3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1"/>
          <p:cNvSpPr/>
          <p:nvPr/>
        </p:nvSpPr>
        <p:spPr>
          <a:xfrm flipV="1" rot="420000">
            <a:off x="3164040" y="1105560"/>
            <a:ext cx="5257800" cy="4114800"/>
          </a:xfrm>
          <a:prstGeom prst="pie">
            <a:avLst/>
          </a:pr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1" name="AutoShape 2"/>
          <p:cNvSpPr/>
          <p:nvPr/>
        </p:nvSpPr>
        <p:spPr>
          <a:xfrm flipV="1" rot="420000">
            <a:off x="800064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AutoShape 3"/>
          <p:cNvSpPr/>
          <p:nvPr/>
        </p:nvSpPr>
        <p:spPr>
          <a:xfrm flipV="1">
            <a:off x="-9000" y="581220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AutoShape 4"/>
          <p:cNvSpPr/>
          <p:nvPr/>
        </p:nvSpPr>
        <p:spPr>
          <a:xfrm flipV="1">
            <a:off x="4381560" y="621576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8"/>
          </p:nvPr>
        </p:nvSpPr>
        <p:spPr>
          <a:xfrm>
            <a:off x="8077320" y="6356160"/>
            <a:ext cx="60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106E1D-8241-4D6E-A536-B8C0106C71F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"/>
          <p:cNvSpPr/>
          <p:nvPr/>
        </p:nvSpPr>
        <p:spPr>
          <a:xfrm>
            <a:off x="1828800" y="1600200"/>
            <a:ext cx="548640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56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ixed-Signal Circuit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esign for Simple Spiking Neuron Mod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2743200" y="3429000"/>
            <a:ext cx="342900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dullah H. Ozca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mshi Chatl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E 6332 – Fall 2009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y of Virgini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1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4343400" cy="3429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4343400" cy="34290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3"/>
          <p:cNvSpPr/>
          <p:nvPr/>
        </p:nvSpPr>
        <p:spPr>
          <a:xfrm>
            <a:off x="914400" y="685800"/>
            <a:ext cx="342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56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imulation Result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4124160" cy="3456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2"/>
          <a:stretch/>
        </p:blipFill>
        <p:spPr>
          <a:xfrm>
            <a:off x="4572000" y="1828800"/>
            <a:ext cx="4114800" cy="36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1" descr=""/>
          <p:cNvPicPr/>
          <p:nvPr/>
        </p:nvPicPr>
        <p:blipFill>
          <a:blip r:embed="rId1"/>
          <a:stretch/>
        </p:blipFill>
        <p:spPr>
          <a:xfrm>
            <a:off x="4572000" y="1816200"/>
            <a:ext cx="4572000" cy="36702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446256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60199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1" descr=""/>
          <p:cNvPicPr/>
          <p:nvPr/>
        </p:nvPicPr>
        <p:blipFill>
          <a:blip r:embed="rId1"/>
          <a:stretch/>
        </p:blipFill>
        <p:spPr>
          <a:xfrm>
            <a:off x="0" y="1143000"/>
            <a:ext cx="4800600" cy="48006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"/>
          <p:cNvPicPr/>
          <p:nvPr/>
        </p:nvPicPr>
        <p:blipFill>
          <a:blip r:embed="rId2"/>
          <a:stretch/>
        </p:blipFill>
        <p:spPr>
          <a:xfrm>
            <a:off x="4800600" y="1143000"/>
            <a:ext cx="45720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1" descr=""/>
          <p:cNvPicPr/>
          <p:nvPr/>
        </p:nvPicPr>
        <p:blipFill>
          <a:blip r:embed="rId1"/>
          <a:stretch/>
        </p:blipFill>
        <p:spPr>
          <a:xfrm>
            <a:off x="0" y="1143000"/>
            <a:ext cx="4114800" cy="52293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452448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81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Lowering Supply Voltag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6191280" cy="438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1"/>
          <p:cNvSpPr/>
          <p:nvPr/>
        </p:nvSpPr>
        <p:spPr>
          <a:xfrm>
            <a:off x="1143000" y="685800"/>
            <a:ext cx="4800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C results without gain booster stag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6782040" cy="527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1"/>
          <p:cNvSpPr/>
          <p:nvPr/>
        </p:nvSpPr>
        <p:spPr>
          <a:xfrm>
            <a:off x="1143000" y="914400"/>
            <a:ext cx="5486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C results using gain booster stage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15328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1"/>
          <p:cNvSpPr/>
          <p:nvPr/>
        </p:nvSpPr>
        <p:spPr>
          <a:xfrm>
            <a:off x="457200" y="1371600"/>
            <a:ext cx="3657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Text Box 2"/>
          <p:cNvSpPr/>
          <p:nvPr/>
        </p:nvSpPr>
        <p:spPr>
          <a:xfrm>
            <a:off x="914400" y="1371600"/>
            <a:ext cx="40384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DC (4bit) Summary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echnology:  0.6 um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Avg Power:   14.2 mW (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.0 mW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ax Power:  23.9 mW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ransistors used: 360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upply Voltage: 5 V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Constanti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og Range: 1 V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Constanti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ing Rate: 200 MHz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4" name="Picture 3" descr=""/>
          <p:cNvPicPr/>
          <p:nvPr/>
        </p:nvPicPr>
        <p:blipFill>
          <a:blip r:embed="rId1"/>
          <a:stretch/>
        </p:blipFill>
        <p:spPr>
          <a:xfrm>
            <a:off x="-9360" y="4952880"/>
            <a:ext cx="9153360" cy="157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5" name=""/>
          <p:cNvGraphicFramePr/>
          <p:nvPr/>
        </p:nvGraphicFramePr>
        <p:xfrm>
          <a:off x="4648320" y="1676520"/>
          <a:ext cx="4113000" cy="2065320"/>
        </p:xfrm>
        <a:graphic>
          <a:graphicData uri="http://schemas.openxmlformats.org/drawingml/2006/table">
            <a:tbl>
              <a:tblPr/>
              <a:tblGrid>
                <a:gridCol w="855720"/>
                <a:gridCol w="896760"/>
                <a:gridCol w="1217520"/>
                <a:gridCol w="1143000"/>
              </a:tblGrid>
              <a:tr h="46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bit AD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 bit ADC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TIQ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Fat Tree Encoder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 bit ADC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TIQ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ROM Encoder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echnolog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6 u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18 u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25 u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ax Spee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2 GSP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.00 GSP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11 GSP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ower Consump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vg 380 m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vg. 22 m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ax 38.65 m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vg 32.64 m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ax 54.41 m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ransistor Coun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8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8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"/>
          <p:cNvSpPr/>
          <p:nvPr/>
        </p:nvSpPr>
        <p:spPr>
          <a:xfrm>
            <a:off x="1149480" y="1082520"/>
            <a:ext cx="2050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264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5067360" y="4371840"/>
            <a:ext cx="3162240" cy="111456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3"/>
          <p:cNvSpPr/>
          <p:nvPr/>
        </p:nvSpPr>
        <p:spPr>
          <a:xfrm>
            <a:off x="1143000" y="2425680"/>
            <a:ext cx="50292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10^11 neurons, each neuron 10-10^5 synapse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Uses less power than your refrigerator ligh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ower matters; decreasing energy/spik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2"/>
          <a:stretch/>
        </p:blipFill>
        <p:spPr>
          <a:xfrm>
            <a:off x="990720" y="4724280"/>
            <a:ext cx="2981160" cy="18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816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6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zhikevich’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imple Spiking Neuron Mod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0" y="2022480"/>
            <a:ext cx="8839080" cy="483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Calibri"/>
                <a:ea typeface="宋体"/>
              </a:rPr>
              <a:t>VLSI Circuit of Izhikevich’s Model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8228160" cy="448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326440" cy="414324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685800" y="6095880"/>
            <a:ext cx="81532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(Jayawan H. B. Wijekon, Piotr Dudek (2007).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Spiking and Bursting Firing Patterns of a Compact VLSI Cortical Neuron Circuit, Int. Joint   Conference on Neural Network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379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Calibri"/>
                <a:ea typeface="宋体"/>
              </a:rPr>
              <a:t>VLSI Circuit (0.35 μm</a:t>
            </a:r>
            <a:r>
              <a:rPr b="0" lang="en-US" sz="4600" spc="-1" strike="noStrike">
                <a:solidFill>
                  <a:srgbClr val="04617b"/>
                </a:solidFill>
                <a:latin typeface="Wingdings"/>
                <a:ea typeface="Wingdings"/>
              </a:rPr>
              <a:t></a:t>
            </a:r>
            <a:r>
              <a:rPr b="0" lang="en-US" sz="4600" spc="-1" strike="noStrike">
                <a:solidFill>
                  <a:srgbClr val="04617b"/>
                </a:solidFill>
                <a:latin typeface="Calibri"/>
                <a:ea typeface="宋体"/>
              </a:rPr>
              <a:t>0.6 μm)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8228160" cy="448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038840" cy="28861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"/>
          <p:cNvPicPr/>
          <p:nvPr/>
        </p:nvPicPr>
        <p:blipFill>
          <a:blip r:embed="rId2"/>
          <a:stretch/>
        </p:blipFill>
        <p:spPr>
          <a:xfrm>
            <a:off x="4419720" y="1828800"/>
            <a:ext cx="3762360" cy="28386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5" descr=""/>
          <p:cNvPicPr/>
          <p:nvPr/>
        </p:nvPicPr>
        <p:blipFill>
          <a:blip r:embed="rId3"/>
          <a:stretch/>
        </p:blipFill>
        <p:spPr>
          <a:xfrm>
            <a:off x="380880" y="5029200"/>
            <a:ext cx="1638360" cy="6382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6" descr=""/>
          <p:cNvPicPr/>
          <p:nvPr/>
        </p:nvPicPr>
        <p:blipFill>
          <a:blip r:embed="rId4"/>
          <a:stretch/>
        </p:blipFill>
        <p:spPr>
          <a:xfrm>
            <a:off x="457200" y="5943600"/>
            <a:ext cx="1409760" cy="4953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7" descr=""/>
          <p:cNvPicPr/>
          <p:nvPr/>
        </p:nvPicPr>
        <p:blipFill>
          <a:blip r:embed="rId5"/>
          <a:stretch/>
        </p:blipFill>
        <p:spPr>
          <a:xfrm>
            <a:off x="2590920" y="1600200"/>
            <a:ext cx="3333600" cy="7048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8" descr=""/>
          <p:cNvPicPr/>
          <p:nvPr/>
        </p:nvPicPr>
        <p:blipFill>
          <a:blip r:embed="rId6"/>
          <a:stretch/>
        </p:blipFill>
        <p:spPr>
          <a:xfrm>
            <a:off x="3352680" y="4952880"/>
            <a:ext cx="5353200" cy="8478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9" descr=""/>
          <p:cNvPicPr/>
          <p:nvPr/>
        </p:nvPicPr>
        <p:blipFill>
          <a:blip r:embed="rId7"/>
          <a:stretch/>
        </p:blipFill>
        <p:spPr>
          <a:xfrm>
            <a:off x="2590920" y="5867280"/>
            <a:ext cx="6114960" cy="8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340200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2"/>
          <p:cNvSpPr/>
          <p:nvPr/>
        </p:nvSpPr>
        <p:spPr>
          <a:xfrm>
            <a:off x="1143000" y="114300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56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mparator Par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6629400" cy="34290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2"/>
          <p:cNvSpPr/>
          <p:nvPr/>
        </p:nvSpPr>
        <p:spPr>
          <a:xfrm>
            <a:off x="1371600" y="77796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lab Result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1"/>
          <p:cNvSpPr/>
          <p:nvPr/>
        </p:nvSpPr>
        <p:spPr>
          <a:xfrm>
            <a:off x="685800" y="685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rcuit Result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7486560" cy="2771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"/>
          <p:cNvPicPr/>
          <p:nvPr/>
        </p:nvPicPr>
        <p:blipFill>
          <a:blip r:embed="rId2"/>
          <a:stretch/>
        </p:blipFill>
        <p:spPr>
          <a:xfrm>
            <a:off x="457200" y="4267080"/>
            <a:ext cx="746748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Neuron Circuit Summary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5638680" cy="268920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3"/>
          <p:cNvSpPr/>
          <p:nvPr/>
        </p:nvSpPr>
        <p:spPr>
          <a:xfrm>
            <a:off x="1066680" y="4876920"/>
            <a:ext cx="6477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920" bIns="46800" anchor="t">
            <a:spAutoFit/>
          </a:bodyPr>
          <a:p>
            <a:pPr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ransistors used: 12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42.1  mW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19.29 mW (% 17 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1"/>
          <p:cNvSpPr/>
          <p:nvPr/>
        </p:nvSpPr>
        <p:spPr>
          <a:xfrm>
            <a:off x="2438280" y="1143000"/>
            <a:ext cx="3886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56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QUESTIONS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3086280" y="194328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3"/>
          <p:cNvSpPr/>
          <p:nvPr/>
        </p:nvSpPr>
        <p:spPr>
          <a:xfrm>
            <a:off x="3657600" y="4800600"/>
            <a:ext cx="2286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hank You!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"/>
          <p:cNvSpPr/>
          <p:nvPr/>
        </p:nvSpPr>
        <p:spPr>
          <a:xfrm>
            <a:off x="1371600" y="1371600"/>
            <a:ext cx="3200400" cy="34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ADC Circuit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Neuron Circuit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Conclusio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-9360" y="2743200"/>
            <a:ext cx="9153360" cy="157176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4"/>
          <p:cNvSpPr/>
          <p:nvPr/>
        </p:nvSpPr>
        <p:spPr>
          <a:xfrm>
            <a:off x="533520" y="533520"/>
            <a:ext cx="769608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92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Q Based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ALOG TO DIGITAL CONVERTER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1"/>
          <p:cNvGrpSpPr/>
          <p:nvPr/>
        </p:nvGrpSpPr>
        <p:grpSpPr>
          <a:xfrm>
            <a:off x="457200" y="685800"/>
            <a:ext cx="8659800" cy="923760"/>
            <a:chOff x="457200" y="685800"/>
            <a:chExt cx="8659800" cy="923760"/>
          </a:xfrm>
        </p:grpSpPr>
        <p:pic>
          <p:nvPicPr>
            <p:cNvPr id="216" name="Picture 2" descr=""/>
            <p:cNvPicPr/>
            <p:nvPr/>
          </p:nvPicPr>
          <p:blipFill>
            <a:blip r:embed="rId1"/>
            <a:stretch/>
          </p:blipFill>
          <p:spPr>
            <a:xfrm>
              <a:off x="457200" y="685800"/>
              <a:ext cx="8659800" cy="9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 Box 3"/>
            <p:cNvSpPr/>
            <p:nvPr/>
          </p:nvSpPr>
          <p:spPr>
            <a:xfrm>
              <a:off x="457200" y="685800"/>
              <a:ext cx="8659800" cy="92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pic>
        <p:nvPicPr>
          <p:cNvPr id="218" name="Picture 4" descr=""/>
          <p:cNvPicPr/>
          <p:nvPr/>
        </p:nvPicPr>
        <p:blipFill>
          <a:blip r:embed="rId2"/>
          <a:stretch/>
        </p:blipFill>
        <p:spPr>
          <a:xfrm>
            <a:off x="685800" y="2819520"/>
            <a:ext cx="3486240" cy="809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"/>
          <p:cNvPicPr/>
          <p:nvPr/>
        </p:nvPicPr>
        <p:blipFill>
          <a:blip r:embed="rId3"/>
          <a:stretch/>
        </p:blipFill>
        <p:spPr>
          <a:xfrm>
            <a:off x="914400" y="3886200"/>
            <a:ext cx="2162160" cy="6858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"/>
          <p:cNvPicPr/>
          <p:nvPr/>
        </p:nvPicPr>
        <p:blipFill>
          <a:blip r:embed="rId4"/>
          <a:stretch/>
        </p:blipFill>
        <p:spPr>
          <a:xfrm>
            <a:off x="4122720" y="1954080"/>
            <a:ext cx="433548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" descr=""/>
          <p:cNvPicPr/>
          <p:nvPr/>
        </p:nvPicPr>
        <p:blipFill>
          <a:blip r:embed="rId1"/>
          <a:stretch/>
        </p:blipFill>
        <p:spPr>
          <a:xfrm>
            <a:off x="4267080" y="1523880"/>
            <a:ext cx="4210200" cy="43434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2"/>
          <p:cNvSpPr/>
          <p:nvPr/>
        </p:nvSpPr>
        <p:spPr>
          <a:xfrm>
            <a:off x="152280" y="609480"/>
            <a:ext cx="7620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48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arator Stage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3648240" cy="55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948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ain Booster Stage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4267080" y="1295280"/>
            <a:ext cx="4400640" cy="421956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3"/>
          <p:cNvSpPr/>
          <p:nvPr/>
        </p:nvSpPr>
        <p:spPr>
          <a:xfrm>
            <a:off x="533520" y="5983200"/>
            <a:ext cx="4495680" cy="8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920" bIns="46800" anchor="t">
            <a:sp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Constanti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rper Transitions in the output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Constanti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voltage swing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2"/>
          <a:stretch/>
        </p:blipFill>
        <p:spPr>
          <a:xfrm>
            <a:off x="1143000" y="1371600"/>
            <a:ext cx="1847880" cy="44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1"/>
          <p:cNvSpPr/>
          <p:nvPr/>
        </p:nvSpPr>
        <p:spPr>
          <a:xfrm>
            <a:off x="380880" y="533520"/>
            <a:ext cx="4038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48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OR Stage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1876320" y="1371600"/>
            <a:ext cx="4524480" cy="4514760"/>
          </a:xfrm>
          <a:prstGeom prst="rect">
            <a:avLst/>
          </a:prstGeom>
          <a:ln w="0">
            <a:noFill/>
          </a:ln>
        </p:spPr>
      </p:pic>
      <p:sp>
        <p:nvSpPr>
          <p:cNvPr id="230" name="TextBox 3"/>
          <p:cNvSpPr/>
          <p:nvPr/>
        </p:nvSpPr>
        <p:spPr>
          <a:xfrm>
            <a:off x="1066680" y="5867280"/>
            <a:ext cx="54104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 Converts TC Code to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 out of N cod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"/>
          <p:cNvSpPr/>
          <p:nvPr/>
        </p:nvSpPr>
        <p:spPr>
          <a:xfrm>
            <a:off x="609480" y="533520"/>
            <a:ext cx="7467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48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coder  Stage (Fat Tree)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1333440" y="1314360"/>
            <a:ext cx="6210360" cy="28004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"/>
          <p:cNvPicPr/>
          <p:nvPr/>
        </p:nvPicPr>
        <p:blipFill>
          <a:blip r:embed="rId2"/>
          <a:stretch/>
        </p:blipFill>
        <p:spPr>
          <a:xfrm>
            <a:off x="2971800" y="4572000"/>
            <a:ext cx="3124080" cy="1305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8:02:35Z</dcterms:created>
  <dc:creator>vamshichatla</dc:creator>
  <dc:description/>
  <dc:language>en-US</dc:language>
  <cp:lastModifiedBy>vamshichatla</cp:lastModifiedBy>
  <dcterms:modified xsi:type="dcterms:W3CDTF">2009-12-03T16:44:59Z</dcterms:modified>
  <cp:revision>28</cp:revision>
  <dc:subject/>
  <dc:title>Slide 1</dc:title>
</cp:coreProperties>
</file>